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882188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3D4-F285-46A4-A299-69C3F3ED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6120" y="38160"/>
            <a:ext cx="80517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760" y="2211120"/>
            <a:ext cx="860112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760" y="3880440"/>
            <a:ext cx="860112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D15-4519-4DBA-9964-96B8594B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6120" y="38160"/>
            <a:ext cx="80517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760" y="2211120"/>
            <a:ext cx="419724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240" y="2211120"/>
            <a:ext cx="419724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760" y="3880440"/>
            <a:ext cx="419724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0240" y="3880440"/>
            <a:ext cx="419724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ED0-A4B8-45F4-9828-747E0242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6120" y="38160"/>
            <a:ext cx="80517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760" y="2211120"/>
            <a:ext cx="27694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1200" y="2211120"/>
            <a:ext cx="27694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9280" y="2211120"/>
            <a:ext cx="27694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760" y="3880440"/>
            <a:ext cx="27694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1200" y="3880440"/>
            <a:ext cx="27694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9280" y="3880440"/>
            <a:ext cx="27694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E48-19F9-45E6-963F-E7FC571B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6120" y="38160"/>
            <a:ext cx="80517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760" y="2211120"/>
            <a:ext cx="860112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D27-0E14-4DA5-BA9B-4F9CE732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6120" y="38160"/>
            <a:ext cx="80517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760" y="2211120"/>
            <a:ext cx="860112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EF2-C147-42B4-A6DB-F50244BD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6120" y="38160"/>
            <a:ext cx="80517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760" y="2211120"/>
            <a:ext cx="41972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0240" y="2211120"/>
            <a:ext cx="41972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603-665F-4288-9E97-09A59228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6120" y="38160"/>
            <a:ext cx="80517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5AF-6702-455C-BC55-726F4204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6120" y="38160"/>
            <a:ext cx="805176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FEB-F34B-4A26-8C66-E794B197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6120" y="38160"/>
            <a:ext cx="80517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760" y="2211120"/>
            <a:ext cx="419724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0240" y="2211120"/>
            <a:ext cx="41972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760" y="3880440"/>
            <a:ext cx="419724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15F-BC36-4792-951A-A8B7954D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6120" y="38160"/>
            <a:ext cx="80517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760" y="2211120"/>
            <a:ext cx="41972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0240" y="2211120"/>
            <a:ext cx="419724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0240" y="3880440"/>
            <a:ext cx="419724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C4F-91A6-4009-968D-0E1E5C81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6120" y="38160"/>
            <a:ext cx="80517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760" y="2211120"/>
            <a:ext cx="419724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0240" y="2211120"/>
            <a:ext cx="419724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760" y="3880440"/>
            <a:ext cx="860112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A67-06BC-45D7-A856-9A5D5B5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6120" y="38160"/>
            <a:ext cx="80517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760" y="2211120"/>
            <a:ext cx="860112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67F2-98A8-4613-8D55-5DF10CC326B0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254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39760"/>
            <a:ext cx="64008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9144000" y="0"/>
                </a:moveTo>
                <a:lnTo>
                  <a:pt x="0" y="0"/>
                </a:lnTo>
                <a:lnTo>
                  <a:pt x="0" y="6858000"/>
                </a:lnTo>
                <a:lnTo>
                  <a:pt x="9144000" y="6858000"/>
                </a:lnTo>
                <a:lnTo>
                  <a:pt x="9144000" y="0"/>
                </a:lnTo>
                <a:close/>
              </a:path>
            </a:pathLst>
          </a:custGeom>
          <a:solidFill>
            <a:srgbClr val="00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505320" y="220680"/>
            <a:ext cx="2738160" cy="1824120"/>
          </a:xfrm>
          <a:prstGeom prst="rect">
            <a:avLst/>
          </a:prstGeom>
          <a:ln w="0">
            <a:noFill/>
          </a:ln>
        </p:spPr>
      </p:pic>
      <p:sp>
        <p:nvSpPr>
          <p:cNvPr id="45" name="object 3"/>
          <p:cNvSpPr/>
          <p:nvPr/>
        </p:nvSpPr>
        <p:spPr>
          <a:xfrm>
            <a:off x="380880" y="2362320"/>
            <a:ext cx="8610840" cy="38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776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ЕК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76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ЕШЕНИЯ СОБРАНИЯ ДЕПУТАТОВ СТРУГО-КРАСНЕНСКОГО МУНИЦИПАЛЬНОГО ОКРУ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76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 БЮДЖЕТЕ СТРУГО-КРАСНЕНСКОГО МУНИЦИПАЛЬНОГО  ОКРУ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76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2025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76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 НА ПЛАНОВЫЙ ПЕРИОД 2026 И 2027 ГО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bject 2"/>
          <p:cNvSpPr/>
          <p:nvPr/>
        </p:nvSpPr>
        <p:spPr>
          <a:xfrm>
            <a:off x="142920" y="142920"/>
            <a:ext cx="8715240" cy="1000080"/>
          </a:xfrm>
          <a:custGeom>
            <a:avLst/>
            <a:gdLst/>
            <a:ahLst/>
            <a:rect l="l" t="t" r="r" b="b"/>
            <a:pathLst>
              <a:path w="9144000" h="1143000">
                <a:moveTo>
                  <a:pt x="9144000" y="0"/>
                </a:moveTo>
                <a:lnTo>
                  <a:pt x="0" y="0"/>
                </a:lnTo>
                <a:lnTo>
                  <a:pt x="0" y="1143000"/>
                </a:lnTo>
                <a:lnTo>
                  <a:pt x="9144000" y="1143000"/>
                </a:lnTo>
                <a:lnTo>
                  <a:pt x="9144000" y="0"/>
                </a:lnTo>
                <a:close/>
              </a:path>
            </a:pathLst>
          </a:custGeom>
          <a:solidFill>
            <a:srgbClr val="0450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2280" y="441360"/>
            <a:ext cx="794376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ТДЕЛЬНЫЕ ПОКАЗАТЕЛИ ИСПОЛНЕНИЯ БЮДЖЕТА РАЙОНА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object 5"/>
          <p:cNvSpPr/>
          <p:nvPr/>
        </p:nvSpPr>
        <p:spPr>
          <a:xfrm>
            <a:off x="542880" y="1582560"/>
            <a:ext cx="765972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емные сред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кредитных организаций планируется не привлек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е муниципальных гарантий на 2025 год и на плановый период 2026 и 2027 годов не предусмотре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bject 6"/>
          <p:cNvSpPr/>
          <p:nvPr/>
        </p:nvSpPr>
        <p:spPr>
          <a:xfrm>
            <a:off x="8794800" y="6537240"/>
            <a:ext cx="252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4b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bject 2"/>
          <p:cNvSpPr/>
          <p:nvPr/>
        </p:nvSpPr>
        <p:spPr>
          <a:xfrm>
            <a:off x="111240" y="5143680"/>
            <a:ext cx="8683560" cy="1285560"/>
          </a:xfrm>
          <a:prstGeom prst="pie">
            <a:avLst/>
          </a:prstGeom>
          <a:solidFill>
            <a:srgbClr val="0450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ЛАГОДАРИМ ЗА ВНИМАНИ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инансовое управление Администрации Струго-Краненского муниципального округ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л. 8-911 370 0081 доб. 1016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mail: </a:t>
            </a:r>
            <a:r>
              <a:rPr b="1" lang="ru-RU" sz="1800" spc="-1" strike="noStrike" u="sng">
                <a:solidFill>
                  <a:srgbClr val="ebf1de"/>
                </a:solidFill>
                <a:uFillTx/>
                <a:latin typeface="Arial"/>
                <a:ea typeface="Arial"/>
              </a:rPr>
              <a:t>strugi@</a:t>
            </a:r>
            <a:r>
              <a:rPr b="1" lang="en-US" sz="1800" spc="-1" strike="noStrike" u="sng">
                <a:solidFill>
                  <a:srgbClr val="ebf1de"/>
                </a:solidFill>
                <a:uFillTx/>
                <a:latin typeface="Arial"/>
                <a:ea typeface="Arial"/>
              </a:rPr>
              <a:t>finupr.pskov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44520" y="127080"/>
            <a:ext cx="51264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1143000"/>
          </a:xfrm>
          <a:custGeom>
            <a:avLst/>
            <a:gdLst/>
            <a:ahLst/>
            <a:rect l="l" t="t" r="r" b="b"/>
            <a:pathLst>
              <a:path w="9144000" h="1143000">
                <a:moveTo>
                  <a:pt x="9144000" y="0"/>
                </a:moveTo>
                <a:lnTo>
                  <a:pt x="0" y="0"/>
                </a:lnTo>
                <a:lnTo>
                  <a:pt x="0" y="1143000"/>
                </a:lnTo>
                <a:lnTo>
                  <a:pt x="9144000" y="1143000"/>
                </a:lnTo>
                <a:lnTo>
                  <a:pt x="9144000" y="0"/>
                </a:lnTo>
                <a:close/>
              </a:path>
            </a:pathLst>
          </a:custGeom>
          <a:solidFill>
            <a:srgbClr val="0450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33200" y="441000"/>
            <a:ext cx="725796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ПАРАМЕТРЫ БЮДЖЕТА ОКРУГА (тыс. руб.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object 4"/>
          <p:cNvSpPr/>
          <p:nvPr/>
        </p:nvSpPr>
        <p:spPr>
          <a:xfrm>
            <a:off x="8926560" y="6537240"/>
            <a:ext cx="139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4b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17360" y="41400"/>
            <a:ext cx="739800" cy="4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600120" y="1347840"/>
          <a:ext cx="8124840" cy="5192640"/>
        </p:xfrm>
        <a:graphic>
          <a:graphicData uri="http://schemas.openxmlformats.org/drawingml/2006/table">
            <a:tbl>
              <a:tblPr/>
              <a:tblGrid>
                <a:gridCol w="3476520"/>
                <a:gridCol w="914400"/>
                <a:gridCol w="1143000"/>
                <a:gridCol w="838440"/>
                <a:gridCol w="838080"/>
                <a:gridCol w="914400"/>
              </a:tblGrid>
              <a:tr h="1206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4440" indent="209520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 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44440" indent="209520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4440" indent="209520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 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отклонения к 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16272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1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680" algn="ctr">
                        <a:lnSpc>
                          <a:spcPct val="100000"/>
                        </a:lnSpc>
                        <a:spcBef>
                          <a:spcPts val="1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907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9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5 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 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4 9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 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43812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 0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 0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9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 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3164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 4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907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 9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 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 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98320">
                <a:tc>
                  <a:txBody>
                    <a:bodyPr lIns="0" rIns="0" tIns="4176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 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 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6 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 6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63760">
                <a:tc>
                  <a:txBody>
                    <a:bodyPr lIns="0" rIns="0" tIns="4176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цит (+)/  Дефицит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 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 4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772920">
                <a:tc>
                  <a:txBody>
                    <a:bodyPr lIns="0" rIns="0" tIns="4176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 дол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 7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9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pSp>
        <p:nvGrpSpPr>
          <p:cNvPr id="51" name="object 7"/>
          <p:cNvGrpSpPr/>
          <p:nvPr/>
        </p:nvGrpSpPr>
        <p:grpSpPr>
          <a:xfrm>
            <a:off x="185760" y="6173640"/>
            <a:ext cx="8772480" cy="642960"/>
            <a:chOff x="185760" y="6173640"/>
            <a:chExt cx="8772480" cy="642960"/>
          </a:xfrm>
        </p:grpSpPr>
        <p:sp>
          <p:nvSpPr>
            <p:cNvPr id="52" name="object 8"/>
            <p:cNvSpPr/>
            <p:nvPr/>
          </p:nvSpPr>
          <p:spPr>
            <a:xfrm>
              <a:off x="185760" y="6173640"/>
              <a:ext cx="8772480" cy="642960"/>
            </a:xfrm>
            <a:custGeom>
              <a:avLst/>
              <a:gdLst/>
              <a:ahLst/>
              <a:rect l="l" t="t" r="r" b="b"/>
              <a:pathLst>
                <a:path w="8644890" h="543559">
                  <a:moveTo>
                    <a:pt x="8644890" y="0"/>
                  </a:moveTo>
                  <a:lnTo>
                    <a:pt x="0" y="0"/>
                  </a:lnTo>
                  <a:lnTo>
                    <a:pt x="0" y="542975"/>
                  </a:lnTo>
                  <a:lnTo>
                    <a:pt x="8644890" y="542975"/>
                  </a:lnTo>
                  <a:lnTo>
                    <a:pt x="8644890" y="0"/>
                  </a:lnTo>
                  <a:close/>
                </a:path>
              </a:pathLst>
            </a:cu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bject 9"/>
            <p:cNvSpPr/>
            <p:nvPr/>
          </p:nvSpPr>
          <p:spPr>
            <a:xfrm>
              <a:off x="185760" y="6173640"/>
              <a:ext cx="8772480" cy="642960"/>
            </a:xfrm>
            <a:custGeom>
              <a:avLst/>
              <a:gdLst/>
              <a:ahLst/>
              <a:rect l="l" t="t" r="r" b="b"/>
              <a:pathLst>
                <a:path w="8644890" h="543559">
                  <a:moveTo>
                    <a:pt x="0" y="542975"/>
                  </a:moveTo>
                  <a:lnTo>
                    <a:pt x="8644890" y="542975"/>
                  </a:lnTo>
                  <a:lnTo>
                    <a:pt x="8644890" y="0"/>
                  </a:lnTo>
                  <a:lnTo>
                    <a:pt x="0" y="0"/>
                  </a:lnTo>
                  <a:lnTo>
                    <a:pt x="0" y="542975"/>
                  </a:lnTo>
                  <a:close/>
                </a:path>
              </a:pathLst>
            </a:custGeom>
            <a:noFill/>
            <a:ln w="25560">
              <a:solidFill>
                <a:srgbClr val="7e7e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object 11" descr=""/>
          <p:cNvPicPr/>
          <p:nvPr/>
        </p:nvPicPr>
        <p:blipFill>
          <a:blip r:embed="rId2"/>
          <a:stretch/>
        </p:blipFill>
        <p:spPr>
          <a:xfrm>
            <a:off x="301680" y="6197760"/>
            <a:ext cx="542880" cy="544320"/>
          </a:xfrm>
          <a:prstGeom prst="rect">
            <a:avLst/>
          </a:prstGeom>
          <a:ln w="0">
            <a:noFill/>
          </a:ln>
        </p:spPr>
      </p:pic>
      <p:sp>
        <p:nvSpPr>
          <p:cNvPr id="55" name="object 10"/>
          <p:cNvSpPr/>
          <p:nvPr/>
        </p:nvSpPr>
        <p:spPr>
          <a:xfrm>
            <a:off x="1143000" y="6215040"/>
            <a:ext cx="75722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Aharoni"/>
              </a:rPr>
              <a:t>Начальник Финансового управления Администрации Струго-Красненского муниципального округа Григорьева Ю.В.,  тел. 8 911 370 0081 доб. 1016, email: </a:t>
            </a:r>
            <a:r>
              <a:rPr b="0" lang="en-US" sz="1400" spc="-1" strike="noStrike">
                <a:solidFill>
                  <a:srgbClr val="ebf1de"/>
                </a:solidFill>
                <a:latin typeface="Calibri"/>
                <a:ea typeface="Aharoni"/>
              </a:rPr>
              <a:t>strugi@finupr.pskov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bject 2"/>
          <p:cNvSpPr/>
          <p:nvPr/>
        </p:nvSpPr>
        <p:spPr>
          <a:xfrm>
            <a:off x="0" y="0"/>
            <a:ext cx="9144000" cy="1143000"/>
          </a:xfrm>
          <a:custGeom>
            <a:avLst/>
            <a:gdLst/>
            <a:ahLst/>
            <a:rect l="l" t="t" r="r" b="b"/>
            <a:pathLst>
              <a:path w="9144000" h="1143000">
                <a:moveTo>
                  <a:pt x="9144000" y="0"/>
                </a:moveTo>
                <a:lnTo>
                  <a:pt x="0" y="0"/>
                </a:lnTo>
                <a:lnTo>
                  <a:pt x="0" y="1143000"/>
                </a:lnTo>
                <a:lnTo>
                  <a:pt x="9144000" y="1143000"/>
                </a:lnTo>
                <a:lnTo>
                  <a:pt x="9144000" y="0"/>
                </a:lnTo>
                <a:close/>
              </a:path>
            </a:pathLst>
          </a:custGeom>
          <a:solidFill>
            <a:srgbClr val="0450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3200" y="441000"/>
            <a:ext cx="725796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ПАРАМЕТРЫ БЮДЖЕТА ОКРУГА (тыс. руб.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object 4"/>
          <p:cNvSpPr/>
          <p:nvPr/>
        </p:nvSpPr>
        <p:spPr>
          <a:xfrm>
            <a:off x="8926560" y="6537240"/>
            <a:ext cx="139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7360" y="41400"/>
            <a:ext cx="739800" cy="4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304920" y="1295280"/>
          <a:ext cx="8307360" cy="4087800"/>
        </p:xfrm>
        <a:graphic>
          <a:graphicData uri="http://schemas.openxmlformats.org/drawingml/2006/table">
            <a:tbl>
              <a:tblPr/>
              <a:tblGrid>
                <a:gridCol w="3276360"/>
                <a:gridCol w="1143000"/>
                <a:gridCol w="1067040"/>
                <a:gridCol w="1004760"/>
                <a:gridCol w="923760"/>
                <a:gridCol w="892440"/>
              </a:tblGrid>
              <a:tr h="967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 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отклонения к 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16272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1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680" algn="ctr">
                        <a:lnSpc>
                          <a:spcPct val="100000"/>
                        </a:lnSpc>
                        <a:spcBef>
                          <a:spcPts val="1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884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 0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 0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9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 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3588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ДФ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6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7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 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1608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9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4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944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совокупный 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6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16440">
                <a:tc>
                  <a:txBody>
                    <a:bodyPr lIns="0" rIns="0" tIns="4176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иму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8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9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94000">
                <a:tc>
                  <a:txBody>
                    <a:bodyPr lIns="0" rIns="0" tIns="4176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79440">
                <a:tc>
                  <a:txBody>
                    <a:bodyPr lIns="0" rIns="0" tIns="4176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2"/>
          <p:cNvSpPr/>
          <p:nvPr/>
        </p:nvSpPr>
        <p:spPr>
          <a:xfrm>
            <a:off x="0" y="0"/>
            <a:ext cx="9144000" cy="1143000"/>
          </a:xfrm>
          <a:custGeom>
            <a:avLst/>
            <a:gdLst/>
            <a:ahLst/>
            <a:rect l="l" t="t" r="r" b="b"/>
            <a:pathLst>
              <a:path w="9144000" h="1143000">
                <a:moveTo>
                  <a:pt x="9144000" y="0"/>
                </a:moveTo>
                <a:lnTo>
                  <a:pt x="0" y="0"/>
                </a:lnTo>
                <a:lnTo>
                  <a:pt x="0" y="1143000"/>
                </a:lnTo>
                <a:lnTo>
                  <a:pt x="9144000" y="1143000"/>
                </a:lnTo>
                <a:lnTo>
                  <a:pt x="9144000" y="0"/>
                </a:lnTo>
                <a:close/>
              </a:path>
            </a:pathLst>
          </a:custGeom>
          <a:solidFill>
            <a:srgbClr val="0450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33200" y="441000"/>
            <a:ext cx="725796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АРАМЕТРЫ БЮДЖЕТА ОКРУГА (тыс. руб.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object 4"/>
          <p:cNvSpPr/>
          <p:nvPr/>
        </p:nvSpPr>
        <p:spPr>
          <a:xfrm>
            <a:off x="8926560" y="6537240"/>
            <a:ext cx="139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17360" y="41400"/>
            <a:ext cx="739800" cy="4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85720" y="1371600"/>
          <a:ext cx="8153640" cy="5338800"/>
        </p:xfrm>
        <a:graphic>
          <a:graphicData uri="http://schemas.openxmlformats.org/drawingml/2006/table">
            <a:tbl>
              <a:tblPr/>
              <a:tblGrid>
                <a:gridCol w="3529080"/>
                <a:gridCol w="914400"/>
                <a:gridCol w="914400"/>
                <a:gridCol w="914400"/>
                <a:gridCol w="914400"/>
                <a:gridCol w="966960"/>
              </a:tblGrid>
              <a:tr h="122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20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 2025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отклонения к 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162720" bIns="0" anchor="t">
                      <a:noAutofit/>
                    </a:bodyPr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884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 4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9040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9040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и при пользовании природными ресур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86364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етериальных и нематериальных актив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00120">
                <a:tc>
                  <a:txBody>
                    <a:bodyPr lIns="0" rIns="0" tIns="4176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45960">
                <a:tc>
                  <a:txBody>
                    <a:bodyPr lIns="0" rIns="0" tIns="4176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ивные плат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97600">
                <a:tc>
                  <a:txBody>
                    <a:bodyPr lIns="0" rIns="0" tIns="4176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bject 2"/>
          <p:cNvSpPr/>
          <p:nvPr/>
        </p:nvSpPr>
        <p:spPr>
          <a:xfrm>
            <a:off x="0" y="0"/>
            <a:ext cx="9144000" cy="1143000"/>
          </a:xfrm>
          <a:custGeom>
            <a:avLst/>
            <a:gdLst/>
            <a:ahLst/>
            <a:rect l="l" t="t" r="r" b="b"/>
            <a:pathLst>
              <a:path w="9144000" h="1143000">
                <a:moveTo>
                  <a:pt x="9144000" y="0"/>
                </a:moveTo>
                <a:lnTo>
                  <a:pt x="0" y="0"/>
                </a:lnTo>
                <a:lnTo>
                  <a:pt x="0" y="1143000"/>
                </a:lnTo>
                <a:lnTo>
                  <a:pt x="9144000" y="1143000"/>
                </a:lnTo>
                <a:lnTo>
                  <a:pt x="9144000" y="0"/>
                </a:lnTo>
                <a:close/>
              </a:path>
            </a:pathLst>
          </a:custGeom>
          <a:solidFill>
            <a:srgbClr val="0450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33200" y="441000"/>
            <a:ext cx="725796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ПАРАМЕТРЫ БЮДЖЕТА ОКРУГА (тыс. руб.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object 4"/>
          <p:cNvSpPr/>
          <p:nvPr/>
        </p:nvSpPr>
        <p:spPr>
          <a:xfrm>
            <a:off x="8926560" y="6537240"/>
            <a:ext cx="139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4b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7360" y="41400"/>
            <a:ext cx="739800" cy="4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519120" y="1295280"/>
          <a:ext cx="8105760" cy="4111920"/>
        </p:xfrm>
        <a:graphic>
          <a:graphicData uri="http://schemas.openxmlformats.org/drawingml/2006/table">
            <a:tbl>
              <a:tblPr/>
              <a:tblGrid>
                <a:gridCol w="3840120"/>
                <a:gridCol w="851040"/>
                <a:gridCol w="850680"/>
                <a:gridCol w="790560"/>
                <a:gridCol w="844560"/>
                <a:gridCol w="928800"/>
              </a:tblGrid>
              <a:tr h="106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 2024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 2025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отклонения к 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162720" bIns="0" anchor="t">
                      <a:noAutofit/>
                    </a:bodyPr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800" algn="ctr">
                        <a:lnSpc>
                          <a:spcPct val="100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60804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 9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 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 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 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7132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7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745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 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7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 8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1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17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 8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19200">
                <a:tc>
                  <a:txBody>
                    <a:bodyPr lIns="0" rIns="0" tIns="4176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ject 2"/>
          <p:cNvSpPr/>
          <p:nvPr/>
        </p:nvSpPr>
        <p:spPr>
          <a:xfrm>
            <a:off x="2766960" y="9360"/>
            <a:ext cx="6058080" cy="13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сполнение расходов 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43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отраслям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млн. руб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1325520"/>
          <a:ext cx="8533080" cy="5380200"/>
        </p:xfrm>
        <a:graphic>
          <a:graphicData uri="http://schemas.openxmlformats.org/drawingml/2006/table">
            <a:tbl>
              <a:tblPr/>
              <a:tblGrid>
                <a:gridCol w="4707000"/>
                <a:gridCol w="752400"/>
                <a:gridCol w="752760"/>
                <a:gridCol w="753840"/>
                <a:gridCol w="752400"/>
                <a:gridCol w="814680"/>
              </a:tblGrid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2280" algn="ct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2280" algn="ct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клонения к 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 algn="ct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 algn="ct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363600">
                <a:tc>
                  <a:txBody>
                    <a:bodyPr lIns="0" rIns="0" tIns="6480" bIns="0" anchor="t">
                      <a:noAutofit/>
                    </a:bodyPr>
                    <a:p>
                      <a:pPr marL="79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92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Е ВОПРО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 63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 5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ct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 08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 06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29040">
                <a:tc>
                  <a:txBody>
                    <a:bodyPr lIns="0" rIns="0" tIns="6480" bIns="0" anchor="t">
                      <a:noAutofit/>
                    </a:bodyPr>
                    <a:p>
                      <a:pPr marL="792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 71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ct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80880">
                <a:tc>
                  <a:txBody>
                    <a:bodyPr lIns="0" rIns="0" tIns="6480" bIns="0" anchor="t">
                      <a:noAutofit/>
                    </a:bodyPr>
                    <a:p>
                      <a:pPr marL="79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 БЕЗОПАСНОСТЬ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ОХРАНИТЕЛЬНАЯ  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29040">
                <a:tc>
                  <a:txBody>
                    <a:bodyPr lIns="0" rIns="0" tIns="0" bIns="0" anchor="t">
                      <a:noAutofit/>
                    </a:bodyPr>
                    <a:p>
                      <a:pPr marL="7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 ЭКОНОМ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 9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 34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ct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 76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556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 94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47680">
                <a:tc>
                  <a:txBody>
                    <a:bodyPr lIns="0" rIns="0" tIns="0" bIns="0" anchor="t">
                      <a:noAutofit/>
                    </a:bodyPr>
                    <a:p>
                      <a:pPr marL="7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  КОММУНАЛЬНОЕ  ХОЗЯЙ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6840" bIns="0" anchor="t">
                      <a:noAutofit/>
                    </a:bodyPr>
                    <a:p>
                      <a:pPr algn="r"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 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6840" bIns="0" anchor="t">
                      <a:noAutofit/>
                    </a:bodyPr>
                    <a:p>
                      <a:pPr algn="r"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 9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68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5 1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6840" bIns="0" anchor="t">
                      <a:noAutofit/>
                    </a:bodyPr>
                    <a:p>
                      <a:pPr algn="r"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 5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30120">
                <a:tc>
                  <a:txBody>
                    <a:bodyPr lIns="0" rIns="0" tIns="104040" bIns="0" anchor="t">
                      <a:noAutofit/>
                    </a:bodyPr>
                    <a:p>
                      <a:pPr marL="7920">
                        <a:lnSpc>
                          <a:spcPts val="1349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ОКРУЖАЮЩЕ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30120">
                <a:tc>
                  <a:txBody>
                    <a:bodyPr lIns="0" rIns="0" tIns="104040" bIns="0" anchor="t">
                      <a:noAutofit/>
                    </a:bodyPr>
                    <a:p>
                      <a:pPr marL="7920">
                        <a:lnSpc>
                          <a:spcPts val="1349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6 90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1 46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9 96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9 33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84400">
                <a:tc>
                  <a:txBody>
                    <a:bodyPr lIns="0" rIns="0" tIns="104040" bIns="0" anchor="t">
                      <a:noAutofit/>
                    </a:bodyPr>
                    <a:p>
                      <a:pPr marL="7920">
                        <a:lnSpc>
                          <a:spcPts val="1335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 39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 00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 00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 00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87360">
                <a:tc>
                  <a:txBody>
                    <a:bodyPr lIns="0" rIns="0" tIns="104040" bIns="0" anchor="t">
                      <a:noAutofit/>
                    </a:bodyPr>
                    <a:p>
                      <a:pPr marL="7920">
                        <a:lnSpc>
                          <a:spcPts val="1335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 10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 88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 88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30600" bIns="0" anchor="t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6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marL="7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 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628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 7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628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7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6280" bIns="0" anchor="t">
                      <a:noAutofit/>
                    </a:bodyPr>
                    <a:p>
                      <a:pPr algn="ct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628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64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6280" bIns="0" anchor="t">
                      <a:noAutofit/>
                    </a:bodyPr>
                    <a:p>
                      <a:pPr algn="r">
                        <a:spcBef>
                          <a:spcPts val="9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4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30480">
                <a:tc>
                  <a:txBody>
                    <a:bodyPr lIns="0" rIns="0" tIns="0" bIns="0" anchor="t">
                      <a:noAutofit/>
                    </a:bodyPr>
                    <a:p>
                      <a:pPr marL="7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МАССОВОЙ 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7000" bIns="0" anchor="t">
                      <a:noAutofit/>
                    </a:bodyPr>
                    <a:p>
                      <a:pPr algn="r"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7000" bIns="0" anchor="t">
                      <a:noAutofit/>
                    </a:bodyPr>
                    <a:p>
                      <a:pPr algn="r"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7000" bIns="0" anchor="t">
                      <a:noAutofit/>
                    </a:bodyPr>
                    <a:p>
                      <a:pPr algn="ctr"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7000" bIns="0" anchor="t">
                      <a:noAutofit/>
                    </a:bodyPr>
                    <a:p>
                      <a:pPr algn="r"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7000" bIns="0" anchor="t">
                      <a:noAutofit/>
                    </a:bodyPr>
                    <a:p>
                      <a:pPr algn="r"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30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МУНИЦИПАЛЬНОГО ДОЛ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700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700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7000" bIns="0" anchor="t">
                      <a:noAutofit/>
                    </a:bodyPr>
                    <a:p>
                      <a:pPr algn="ctr"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7000" bIns="0" anchor="t">
                      <a:noAutofit/>
                    </a:bodyPr>
                    <a:p>
                      <a:pPr algn="r"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117000" bIns="0" anchor="t">
                      <a:noAutofit/>
                    </a:bodyPr>
                    <a:p>
                      <a:pPr algn="r"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66760">
                <a:tc>
                  <a:txBody>
                    <a:bodyPr lIns="0" rIns="0" tIns="30960" bIns="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-УТВЕРЖДЕННЫЕ 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30960" bIns="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30960" bIns="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09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3096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30960" bIns="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30960" bIns="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87280">
                <a:tc>
                  <a:txBody>
                    <a:bodyPr lIns="0" rIns="0" tIns="30960" bIns="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30960" bIns="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6 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30960" bIns="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5 0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30960" bIns="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30960" bIns="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6 32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30960" bIns="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0 6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73" name="object 4"/>
          <p:cNvSpPr/>
          <p:nvPr/>
        </p:nvSpPr>
        <p:spPr>
          <a:xfrm>
            <a:off x="8926560" y="6537240"/>
            <a:ext cx="139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object 5"/>
          <p:cNvGrpSpPr/>
          <p:nvPr/>
        </p:nvGrpSpPr>
        <p:grpSpPr>
          <a:xfrm>
            <a:off x="0" y="-125280"/>
            <a:ext cx="9032760" cy="1164960"/>
            <a:chOff x="0" y="-125280"/>
            <a:chExt cx="9032760" cy="1164960"/>
          </a:xfrm>
        </p:grpSpPr>
        <p:pic>
          <p:nvPicPr>
            <p:cNvPr id="75" name="object 6" descr=""/>
            <p:cNvPicPr/>
            <p:nvPr/>
          </p:nvPicPr>
          <p:blipFill>
            <a:blip r:embed="rId1"/>
            <a:stretch/>
          </p:blipFill>
          <p:spPr>
            <a:xfrm>
              <a:off x="110520" y="-25200"/>
              <a:ext cx="422280" cy="53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object 7"/>
            <p:cNvSpPr/>
            <p:nvPr/>
          </p:nvSpPr>
          <p:spPr>
            <a:xfrm>
              <a:off x="0" y="-125280"/>
              <a:ext cx="9032760" cy="1164960"/>
            </a:xfrm>
            <a:prstGeom prst="pie">
              <a:avLst/>
            </a:prstGeom>
            <a:solidFill>
              <a:srgbClr val="0450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3640" y="399600"/>
            <a:ext cx="8078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ПАРАМЕТРЫ БЮДЖЕТА ОКРУГА(тыс. руб.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41120" y="112680"/>
            <a:ext cx="487440" cy="3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990720" y="992160"/>
          <a:ext cx="7238880" cy="21420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214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расходов по отрасля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bject 2"/>
          <p:cNvSpPr/>
          <p:nvPr/>
        </p:nvSpPr>
        <p:spPr>
          <a:xfrm>
            <a:off x="365040" y="47520"/>
            <a:ext cx="8352000" cy="1109880"/>
          </a:xfrm>
          <a:custGeom>
            <a:avLst/>
            <a:gdLst/>
            <a:ahLst/>
            <a:rect l="l" t="t" r="r" b="b"/>
            <a:pathLst>
              <a:path w="9144000" h="1143000">
                <a:moveTo>
                  <a:pt x="9144000" y="0"/>
                </a:moveTo>
                <a:lnTo>
                  <a:pt x="0" y="0"/>
                </a:lnTo>
                <a:lnTo>
                  <a:pt x="0" y="1143000"/>
                </a:lnTo>
                <a:lnTo>
                  <a:pt x="9144000" y="1143000"/>
                </a:lnTo>
                <a:lnTo>
                  <a:pt x="9144000" y="0"/>
                </a:lnTo>
                <a:close/>
              </a:path>
            </a:pathLst>
          </a:custGeom>
          <a:solidFill>
            <a:srgbClr val="0450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3"/>
          <p:cNvSpPr/>
          <p:nvPr/>
        </p:nvSpPr>
        <p:spPr>
          <a:xfrm>
            <a:off x="1619280" y="147600"/>
            <a:ext cx="6646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ПАРАМЕТРЫ БЮДЖЕТА ОКР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25000" y="762120"/>
            <a:ext cx="733284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РАМКАХ МУНИЦИПАЛЬНЫХ ПРОГРАММ (ТЫС.РУБ.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object 13"/>
          <p:cNvSpPr/>
          <p:nvPr/>
        </p:nvSpPr>
        <p:spPr>
          <a:xfrm>
            <a:off x="1473120" y="407520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ject 14"/>
          <p:cNvSpPr/>
          <p:nvPr/>
        </p:nvSpPr>
        <p:spPr>
          <a:xfrm>
            <a:off x="2397240" y="39481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bject 15"/>
          <p:cNvSpPr/>
          <p:nvPr/>
        </p:nvSpPr>
        <p:spPr>
          <a:xfrm>
            <a:off x="3319560" y="38419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16"/>
          <p:cNvSpPr/>
          <p:nvPr/>
        </p:nvSpPr>
        <p:spPr>
          <a:xfrm>
            <a:off x="4241880" y="38419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17"/>
          <p:cNvSpPr/>
          <p:nvPr/>
        </p:nvSpPr>
        <p:spPr>
          <a:xfrm>
            <a:off x="5164200" y="38005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18"/>
          <p:cNvSpPr/>
          <p:nvPr/>
        </p:nvSpPr>
        <p:spPr>
          <a:xfrm>
            <a:off x="6087960" y="360828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19"/>
          <p:cNvSpPr/>
          <p:nvPr/>
        </p:nvSpPr>
        <p:spPr>
          <a:xfrm>
            <a:off x="7010280" y="360828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20"/>
          <p:cNvSpPr/>
          <p:nvPr/>
        </p:nvSpPr>
        <p:spPr>
          <a:xfrm>
            <a:off x="7932600" y="360828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65040" y="1182600"/>
          <a:ext cx="8352000" cy="5531040"/>
        </p:xfrm>
        <a:graphic>
          <a:graphicData uri="http://schemas.openxmlformats.org/drawingml/2006/table">
            <a:tbl>
              <a:tblPr/>
              <a:tblGrid>
                <a:gridCol w="3686400"/>
                <a:gridCol w="1720800"/>
                <a:gridCol w="1488960"/>
                <a:gridCol w="1455840"/>
              </a:tblGrid>
              <a:tr h="690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2280" algn="ct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025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 algn="ct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026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 algn="ct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027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092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муниципальной программы Струго-Красненского муниципального округ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9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25560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Социальная поддержка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03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Развитие физической культуры и спорта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5560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Содействие занятости населен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5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Развитие образования и повышение эффективности реализации молодежной политики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 8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 7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21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Культура, сохранение культурного наслед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5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03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Реализация государственной национальной политик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180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Обеспечение населения округа доступным и комфортным жильем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03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Обращение с отходами, в том числе с твердыми коммунальными отходам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Модернизация систем коммунальной инфраструктур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Формирование современной городской сред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9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Развитие транспортного обслуживания населен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36480" y="47520"/>
            <a:ext cx="488880" cy="325440"/>
          </a:xfrm>
          <a:prstGeom prst="rect">
            <a:avLst/>
          </a:prstGeom>
          <a:ln w="0">
            <a:noFill/>
          </a:ln>
        </p:spPr>
      </p:pic>
      <p:sp>
        <p:nvSpPr>
          <p:cNvPr id="93" name="object 2"/>
          <p:cNvSpPr/>
          <p:nvPr/>
        </p:nvSpPr>
        <p:spPr>
          <a:xfrm>
            <a:off x="8794800" y="6537240"/>
            <a:ext cx="252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bject 2"/>
          <p:cNvSpPr/>
          <p:nvPr/>
        </p:nvSpPr>
        <p:spPr>
          <a:xfrm>
            <a:off x="365040" y="6480"/>
            <a:ext cx="8352000" cy="1110960"/>
          </a:xfrm>
          <a:custGeom>
            <a:avLst/>
            <a:gdLst/>
            <a:ahLst/>
            <a:rect l="l" t="t" r="r" b="b"/>
            <a:pathLst>
              <a:path w="9144000" h="1143000">
                <a:moveTo>
                  <a:pt x="9144000" y="0"/>
                </a:moveTo>
                <a:lnTo>
                  <a:pt x="0" y="0"/>
                </a:lnTo>
                <a:lnTo>
                  <a:pt x="0" y="1143000"/>
                </a:lnTo>
                <a:lnTo>
                  <a:pt x="9144000" y="1143000"/>
                </a:lnTo>
                <a:lnTo>
                  <a:pt x="9144000" y="0"/>
                </a:lnTo>
                <a:close/>
              </a:path>
            </a:pathLst>
          </a:custGeom>
          <a:solidFill>
            <a:srgbClr val="0450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3"/>
          <p:cNvSpPr/>
          <p:nvPr/>
        </p:nvSpPr>
        <p:spPr>
          <a:xfrm>
            <a:off x="1619280" y="147600"/>
            <a:ext cx="6646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ПАРАМЕТРЫ БЮДЖЕТА ОКР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565200"/>
            <a:ext cx="6888240" cy="318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РАМКАХ МУНИЦИПАЛЬНЫХ ПРОГРАММ (ТЫС.РУБ.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object 13"/>
          <p:cNvSpPr/>
          <p:nvPr/>
        </p:nvSpPr>
        <p:spPr>
          <a:xfrm>
            <a:off x="1473120" y="407520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14"/>
          <p:cNvSpPr/>
          <p:nvPr/>
        </p:nvSpPr>
        <p:spPr>
          <a:xfrm>
            <a:off x="2397240" y="39481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bject 15"/>
          <p:cNvSpPr/>
          <p:nvPr/>
        </p:nvSpPr>
        <p:spPr>
          <a:xfrm>
            <a:off x="3319560" y="38419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16"/>
          <p:cNvSpPr/>
          <p:nvPr/>
        </p:nvSpPr>
        <p:spPr>
          <a:xfrm>
            <a:off x="4241880" y="38419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17"/>
          <p:cNvSpPr/>
          <p:nvPr/>
        </p:nvSpPr>
        <p:spPr>
          <a:xfrm>
            <a:off x="5164200" y="38005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bject 18"/>
          <p:cNvSpPr/>
          <p:nvPr/>
        </p:nvSpPr>
        <p:spPr>
          <a:xfrm>
            <a:off x="6087960" y="360828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bject 19"/>
          <p:cNvSpPr/>
          <p:nvPr/>
        </p:nvSpPr>
        <p:spPr>
          <a:xfrm>
            <a:off x="7010280" y="360828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bject 20"/>
          <p:cNvSpPr/>
          <p:nvPr/>
        </p:nvSpPr>
        <p:spPr>
          <a:xfrm>
            <a:off x="7932600" y="360828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65040" y="1214280"/>
          <a:ext cx="8352000" cy="5389560"/>
        </p:xfrm>
        <a:graphic>
          <a:graphicData uri="http://schemas.openxmlformats.org/drawingml/2006/table">
            <a:tbl>
              <a:tblPr/>
              <a:tblGrid>
                <a:gridCol w="3737160"/>
                <a:gridCol w="1703160"/>
                <a:gridCol w="1471680"/>
                <a:gridCol w="1440000"/>
              </a:tblGrid>
              <a:tr h="91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2280" algn="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025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 algn="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026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 algn="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027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23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муниципальной программы Струго-Красненского муниципального округ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9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39852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Комплексное развитие сельских территори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4 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5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Защита населения и территорий от чрезвычайных ситуаций и обеспечение пожарной безопасности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180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Обеспечение общественного порядка и противодействие преступност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8112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рограмма профилактики беспризорности, безнадзорности и правонарушений несовершеннолетних, семейного неблагополуч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8112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Содействие экономическому развитию, инвестиционной привлекательности Струго-Красненского муниципального округ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20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Развитие сельского хозяйств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03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Энергоэффективность и «энергосбереж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21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Охрана окружающей среды и природных ресурсов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340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Развитие туриз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36480" y="47520"/>
            <a:ext cx="488880" cy="325440"/>
          </a:xfrm>
          <a:prstGeom prst="rect">
            <a:avLst/>
          </a:prstGeom>
          <a:ln w="0">
            <a:noFill/>
          </a:ln>
        </p:spPr>
      </p:pic>
      <p:sp>
        <p:nvSpPr>
          <p:cNvPr id="107" name="object 2"/>
          <p:cNvSpPr/>
          <p:nvPr/>
        </p:nvSpPr>
        <p:spPr>
          <a:xfrm>
            <a:off x="8839080" y="6537240"/>
            <a:ext cx="2080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4b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bject 2"/>
          <p:cNvSpPr/>
          <p:nvPr/>
        </p:nvSpPr>
        <p:spPr>
          <a:xfrm>
            <a:off x="365040" y="6480"/>
            <a:ext cx="8352000" cy="1110960"/>
          </a:xfrm>
          <a:custGeom>
            <a:avLst/>
            <a:gdLst/>
            <a:ahLst/>
            <a:rect l="l" t="t" r="r" b="b"/>
            <a:pathLst>
              <a:path w="9144000" h="1143000">
                <a:moveTo>
                  <a:pt x="9144000" y="0"/>
                </a:moveTo>
                <a:lnTo>
                  <a:pt x="0" y="0"/>
                </a:lnTo>
                <a:lnTo>
                  <a:pt x="0" y="1143000"/>
                </a:lnTo>
                <a:lnTo>
                  <a:pt x="9144000" y="1143000"/>
                </a:lnTo>
                <a:lnTo>
                  <a:pt x="9144000" y="0"/>
                </a:lnTo>
                <a:close/>
              </a:path>
            </a:pathLst>
          </a:custGeom>
          <a:solidFill>
            <a:srgbClr val="0450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3"/>
          <p:cNvSpPr/>
          <p:nvPr/>
        </p:nvSpPr>
        <p:spPr>
          <a:xfrm>
            <a:off x="1619280" y="147600"/>
            <a:ext cx="6646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ПАРАМЕТРЫ БЮДЖЕТА ОКР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565200"/>
            <a:ext cx="6888240" cy="318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РАМКАХ МУНИЦИПАЛЬНЫХ ПРОГРАММ (ТЫС.РУБ.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object 13"/>
          <p:cNvSpPr/>
          <p:nvPr/>
        </p:nvSpPr>
        <p:spPr>
          <a:xfrm>
            <a:off x="1473120" y="407520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bject 14"/>
          <p:cNvSpPr/>
          <p:nvPr/>
        </p:nvSpPr>
        <p:spPr>
          <a:xfrm>
            <a:off x="2397240" y="39481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bject 15"/>
          <p:cNvSpPr/>
          <p:nvPr/>
        </p:nvSpPr>
        <p:spPr>
          <a:xfrm>
            <a:off x="3319560" y="38419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ject 16"/>
          <p:cNvSpPr/>
          <p:nvPr/>
        </p:nvSpPr>
        <p:spPr>
          <a:xfrm>
            <a:off x="4241880" y="38419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bject 17"/>
          <p:cNvSpPr/>
          <p:nvPr/>
        </p:nvSpPr>
        <p:spPr>
          <a:xfrm>
            <a:off x="5164200" y="380052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bject 18"/>
          <p:cNvSpPr/>
          <p:nvPr/>
        </p:nvSpPr>
        <p:spPr>
          <a:xfrm>
            <a:off x="6087960" y="360828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ject 19"/>
          <p:cNvSpPr/>
          <p:nvPr/>
        </p:nvSpPr>
        <p:spPr>
          <a:xfrm>
            <a:off x="7010280" y="360828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bject 20"/>
          <p:cNvSpPr/>
          <p:nvPr/>
        </p:nvSpPr>
        <p:spPr>
          <a:xfrm>
            <a:off x="7932600" y="3608280"/>
            <a:ext cx="333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65040" y="1214280"/>
          <a:ext cx="8352000" cy="5045400"/>
        </p:xfrm>
        <a:graphic>
          <a:graphicData uri="http://schemas.openxmlformats.org/drawingml/2006/table">
            <a:tbl>
              <a:tblPr/>
              <a:tblGrid>
                <a:gridCol w="3737160"/>
                <a:gridCol w="1703160"/>
                <a:gridCol w="1471680"/>
                <a:gridCol w="1440000"/>
              </a:tblGrid>
              <a:tr h="91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2280" algn="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025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 algn="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026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 algn="r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027 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23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муниципальной программы Струго-Красненского муниципального округ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9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5205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Управление муниципальным имуществом Струго-Красненского муниципального округ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5488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Развитие информационного общества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8256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Создание условий для эффективного управления муниципальными финансами и муниципальным долгом в Струго-Красненском муниципальном округ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7448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Развитие и поддержка территориального и общественного самоуправлен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0032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Муниципальные 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4 0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 8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 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5488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программные 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4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2724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овно утвержденные 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95520">
                <a:tc>
                  <a:txBody>
                    <a:bodyPr lIns="0" rIns="0" tIns="414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5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6 3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 6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636480" y="47520"/>
            <a:ext cx="488880" cy="325440"/>
          </a:xfrm>
          <a:prstGeom prst="rect">
            <a:avLst/>
          </a:prstGeom>
          <a:ln w="0">
            <a:noFill/>
          </a:ln>
        </p:spPr>
      </p:pic>
      <p:sp>
        <p:nvSpPr>
          <p:cNvPr id="121" name="object 2"/>
          <p:cNvSpPr/>
          <p:nvPr/>
        </p:nvSpPr>
        <p:spPr>
          <a:xfrm>
            <a:off x="8839080" y="6537240"/>
            <a:ext cx="1526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4b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14T12:25:08Z</dcterms:created>
  <dc:creator>Проворова</dc:creator>
  <dc:description/>
  <dc:language>en-US</dc:language>
  <cp:lastModifiedBy>user</cp:lastModifiedBy>
  <cp:lastPrinted>2024-11-13T06:49:38Z</cp:lastPrinted>
  <dcterms:modified xsi:type="dcterms:W3CDTF">2024-11-26T11:52:59Z</dcterms:modified>
  <cp:revision>389</cp:revision>
  <dc:subject/>
  <dc:title>Отчет об исполнении бюджета Череповецкого муниципального района за 2018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2-04-26T00:00:00Z</vt:filetime>
  </property>
  <property fmtid="{D5CDD505-2E9C-101B-9397-08002B2CF9AE}" pid="3" name="Creator">
    <vt:lpwstr>Microsoft® PowerPoint® 2010</vt:lpwstr>
  </property>
  <property fmtid="{D5CDD505-2E9C-101B-9397-08002B2CF9AE}" pid="4" name="LastSaved">
    <vt:filetime>2023-03-14T00:00:00Z</vt:filetime>
  </property>
</Properties>
</file>